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161-8315-43F6-A936-38FC7825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BD7-1FFB-4CEA-ABED-C6D51071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072-FDA0-4E91-A912-87012DC6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803-425A-42F4-A307-AAAE782F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ED9-A64D-4EEF-B6F6-EA8AC94C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018-A774-403A-B0F4-4590BC7E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898-A4AA-4C1A-9226-02C93DE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C59-A2EF-48C2-BCBA-BE16A17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6E8-6F58-424A-B4CD-F3226323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87B-7A97-4EDB-8BE6-01F915E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632-3976-424C-866F-1491A95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1F0-F2CF-4EEE-90CA-7DBA160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A30-D51D-4431-869C-EECE2BB37D0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enjamin Zephani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484280"/>
            <a:ext cx="237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reotyping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judice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ing people according to false assumptions based on a widely held but oversimplified image or idea of their ‘typ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like or hostility based on a preconceived opinion rather than actual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6T21:31:15Z</dcterms:modified>
  <cp:revision>61</cp:revision>
  <dc:subject/>
  <dc:title>La Belle Dame Sans Merci</dc:title>
</cp:coreProperties>
</file>